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0E6-12F5-4782-97AE-61364DB7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B36-0908-459D-8A86-DAEF5427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943-6ED8-477F-910A-2D42DE93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F55-619F-4116-A3B7-AFD9984B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80E-84C4-4754-966D-5EFFAA67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064E-3916-4BE0-AE6F-E37F1E7D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CA7-4C24-4344-949F-F2A77B54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3672-5235-4FB7-AAA5-F49DE695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EBCF-96C0-4F50-B1DC-41671093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BB3A-2FB7-4863-BBE3-DBB37A2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3C36-91D7-41FA-B8B3-7B35FEE4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824-7886-4FBD-A436-C7C75C02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9536-8A7C-4AD3-816C-1E9C2FE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16C2-4773-47BB-95AF-0F67BB7D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1073-7EED-4DEE-9FCE-365AA5E7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B6D7-AED5-4BDD-9A47-3879F3BC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48AC-80C6-4B04-9B4E-DBD8DCFE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FD4-8ED2-4D3D-8FE3-21CCECE0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3A9-ACA2-4A70-BBEA-2DA84E0F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5C4-0E21-419A-B52F-6C7E5DD0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793-675A-4FF1-95D6-57E8B426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0FB-97B6-448E-AD14-BDC7A3AD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57C-B5C3-4BBB-945D-0D1DAB60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AA0-0C24-471D-8626-3C6F0B0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692D-CFEC-4913-BAB0-25BEE08E07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B664-564D-4DB0-B283-65732D9ECF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2000" y="2033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UŁAMKI NA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SI LICZBOW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819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aznacz na osi liczbowej punkt A o współrzędn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767720" y="638280"/>
                <a:ext cx="271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1827360" y="2933640"/>
          <a:ext cx="5433840" cy="1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2933640"/>
                    <a:ext cx="543384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878280" y="3068640"/>
                <a:ext cx="244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51280" y="25671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0621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0621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06640" y="4419720"/>
            <a:ext cx="51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wskazuje na ile części należy podzielić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dcinek jednostkow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omiast jaka jest odległość punktu od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ze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CHEMAT ZAZNACZANIA UŁAMKÓW NA OSI LICZBOW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920" y="139716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ysujemy oś liczb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808280"/>
            <a:ext cx="51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Zaznaczamy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unkt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dcinek jednostk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214720"/>
            <a:ext cx="73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Odcinek jednostkowy dzielimy na tyle części ile jest zapisane 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 tym przypadku mamy podzielony odcinek jednostkowy na 6 czę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15900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Zaznaczamy ułamek na osi liczbowej zaznaczamy 5 części tak jak mówi nam o ty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46280" y="4915080"/>
          <a:ext cx="5433840" cy="14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15080"/>
                    <a:ext cx="543384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411280" y="5087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5087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57720" y="5049720"/>
                <a:ext cx="244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9:26Z</dcterms:modified>
  <cp:revision>41</cp:revision>
  <dc:subject/>
  <dc:title>Slajd 1</dc:title>
</cp:coreProperties>
</file>